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1C65-33C5-45F3-A40A-F47DE522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4EBF-5BEB-4D07-B144-C6E56261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92D-5E8D-40FB-997C-3BCD64AC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0F4-8DF2-4DB7-A63F-3E4914F0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815E-63AF-413D-BA91-37720AFA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39C7-EED4-4ACB-9CEE-A1A3D9EE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B92-2A0A-4013-A465-0B06570F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24C-F3EB-43E1-9F04-76B6ADDF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8097-3F12-494F-9D16-7C7708A2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99A-9BCE-4B2F-92A9-9890DE07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1CE4-E2A2-4020-B7A5-58DD3CFF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1F7-8C66-4B32-9F1B-E5F38FA5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9BEA-52C3-4783-A262-FB730E142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8:19:41Z</dcterms:created>
  <dc:creator>abeason</dc:creator>
  <dc:description/>
  <dc:language>en-US</dc:language>
  <cp:lastModifiedBy>abeason</cp:lastModifiedBy>
  <dcterms:modified xsi:type="dcterms:W3CDTF">2009-04-06T18:19:45Z</dcterms:modified>
  <cp:revision>1</cp:revision>
  <dc:subject/>
  <dc:title>Slide 1</dc:title>
</cp:coreProperties>
</file>